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C5E-456A-4798-AC08-924DE529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98F-EEBB-4A0B-97AB-7B7D1AE4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E6F-64E9-425D-B3DF-52BCFCF3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C64-F054-457F-B1DD-AC75F5D3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9BBE-6610-4883-B715-64631ACB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AA4D-071A-42BD-A105-84682917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9D8E-3BC6-491E-8948-F6C2B863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092B-A709-44BB-A864-4311B83A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5516-BBBF-4A59-95D1-FF8919E9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CFC3-3CA5-4A98-AF96-0BB21C6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A3C0-8FB2-45EA-9356-AA06FDF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F17-B9C1-4CAC-8129-494BD083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6428-1591-4D16-9E9A-BE0009B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05F7-5C9E-4427-A9FA-6B7EE6D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4101-9263-4ED0-BAB1-BA73B298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7E5E-8D5C-40EC-B14F-EE0CA043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D3DC-8B0C-4166-9916-D262BD7B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34AC9-B73F-4A93-8177-B989A6B6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3C499-481B-4BF4-92FF-609811AB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1559A-BDE4-490F-AE0A-E709E0DC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4C227-AFAE-4BA8-88C4-12B4057D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7F124-0DDC-4C48-8682-8FA12D2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616-B500-42C1-A21B-78F5218D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75091-3303-4E17-BE70-86AB0903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44421-1679-4829-A5C3-820BD48D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DCCDD-5FF6-4299-810F-43EE8C40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4B447-359A-4935-807F-7ADC5E7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18BF8-0943-4EBE-99C3-CADDD11E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9C945-B91C-425B-9CF6-6D152918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CE155-47FE-4EA3-8A26-F36CED8A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FB43-0D95-4EDB-A73A-E491FE35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F062-A45D-4993-93DA-62270D04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0AE0-921C-4BD2-90D4-C82ADC3A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D9E-D6C5-4514-8A6A-5ED11813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48D2-E372-4F7D-A88B-7534AAC1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D80B-0BC0-4506-A4A3-FEB1E006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6455D-99A5-43C2-9039-DFCA29A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C4C2-F612-4A27-929D-ECF833FC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301E-6334-4C3A-8E5F-F536B0A2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E148-38C1-4A46-AB0B-1B3FF343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2E8D-9791-4931-AC4B-EBF95C5E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72B8-2CED-4089-9C0F-C62D9A99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136C-BDE4-435D-9A51-54328A03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AF64A-A64E-48CB-B3D3-3D5A7288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3A0-17B6-418E-92F9-B889115C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B8F0-7BC1-4F40-BA75-0E6018CD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1DCBF-2598-4B95-8142-3933E97B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574B1-780D-4805-95EA-FDEEB32A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0F605-E807-4F2A-B86B-341B51DA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21E5-7B26-463D-8E88-9F29FCAD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93F04-E3C9-4B87-879D-0546CEE9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78640-032C-41E5-B4CD-58135212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3E5C-495B-4956-86B2-C4685709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8957-C7C8-4519-A4A7-FBA97215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4C6A5-D2CD-44FC-8295-C7D41043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26D-CAA6-4A08-BA6F-F0920E70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3F46-7135-4EC2-A94B-E2B05D32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4EF-3A87-4777-A6C2-D9208E8F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623-A95A-425C-B7BD-B1F07848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CE3-FBCC-4816-BF29-D5C4DB5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AED-561A-4A57-BA4A-6EAB6CB9B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3AEE-EB62-4EF5-B8C2-4C2B8870D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AE93-D61A-40BD-A24D-EC34578FA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479F-89B7-478F-BCEE-CF1F8BBF42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2937-AE0E-42E9-9F98-2036F70CBD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XULwgg41gc" TargetMode="External"/><Relationship Id="rId2" Type="http://schemas.openxmlformats.org/officeDocument/2006/relationships/hyperlink" Target="http://www.youtube.com/watch?v=RXULwgg41gc" TargetMode="External"/><Relationship Id="rId3" Type="http://schemas.openxmlformats.org/officeDocument/2006/relationships/hyperlink" Target="http://www.youtube.com/watch?v=RXULwgg41gc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T6LnqNe-NI" TargetMode="External"/><Relationship Id="rId2" Type="http://schemas.openxmlformats.org/officeDocument/2006/relationships/hyperlink" Target="http://www.youtube.com/watch?v=hT6LnqNe-NI" TargetMode="External"/><Relationship Id="rId3" Type="http://schemas.openxmlformats.org/officeDocument/2006/relationships/hyperlink" Target="http://www.youtube.com/watch?v=hT6LnqNe-NI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results?search_query=detlef%2C+head+of+marketing%2Frandom+house" TargetMode="External"/><Relationship Id="rId2" Type="http://schemas.openxmlformats.org/officeDocument/2006/relationships/hyperlink" Target="http://www.youtube.com/results?search_query=detlef%2C+head+of+marketing%2Frandom+house" TargetMode="External"/><Relationship Id="rId3" Type="http://schemas.openxmlformats.org/officeDocument/2006/relationships/hyperlink" Target="http://www.youtube.com/results?search_query=detlef%2C+head+of+marketing%2Frandom+house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1ObC15XlzQ" TargetMode="External"/><Relationship Id="rId2" Type="http://schemas.openxmlformats.org/officeDocument/2006/relationships/hyperlink" Target="http://www.youtube.com/watch?v=l1ObC15XlzQ" TargetMode="External"/><Relationship Id="rId3" Type="http://schemas.openxmlformats.org/officeDocument/2006/relationships/hyperlink" Target="http://www.youtube.com/watch?v=l1ObC15XlzQ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15000" spc="-1" strike="noStrike">
                <a:solidFill>
                  <a:srgbClr val="dfd293"/>
                </a:solidFill>
                <a:latin typeface="Arial Black"/>
              </a:rPr>
              <a:t>WOR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coun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king income and assets of a business ov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financial stat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 business trans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and use information systems to track financial performance, tax strategy and health &amp; benefits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RXULwgg41g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44 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s in Human Resourc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hT6LnqNe-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34 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s in Oper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managing people and resources in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tegic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ing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ing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loying human and financial assets to achieve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ing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VOXEvfWTq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lip 2: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s in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 activity of providing funds and capi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e f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stment ba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results?search_quer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detlef%2C+head+of+marketing%2Frandom+ho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lip 1: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in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 processes involved in promoting, selling, and distributing a product or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panies have a manager in charge of mark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eers in Busi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84520" y="914400"/>
            <a:ext cx="5607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What d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ff"/>
                </a:solidFill>
                <a:latin typeface="Arial Black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Think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533520"/>
            <a:ext cx="7467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You’ll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probab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pend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t least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Arial Black"/>
              </a:rPr>
              <a:t>1/3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f your lif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t wor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maybe </a:t>
            </a:r>
            <a:r>
              <a:rPr b="0" i="1" lang="en-US" sz="6000" spc="-1" strike="noStrike">
                <a:solidFill>
                  <a:srgbClr val="000000"/>
                </a:solidFill>
                <a:latin typeface="Arial Black"/>
              </a:rPr>
              <a:t>1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7620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That’s a </a:t>
            </a:r>
            <a:r>
              <a:rPr b="0" i="1" lang="en-US" sz="8800" spc="-1" strike="noStrike">
                <a:solidFill>
                  <a:srgbClr val="ffffff"/>
                </a:solidFill>
                <a:latin typeface="Arial Black"/>
              </a:rPr>
              <a:t>major</a:t>
            </a: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investm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523880"/>
            <a:ext cx="7013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i="1" lang="en-US" sz="8800" spc="-1" strike="noStrike">
                <a:solidFill>
                  <a:srgbClr val="000000"/>
                </a:solidFill>
                <a:latin typeface="Arial Black"/>
              </a:rPr>
              <a:t>hug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investm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4520" y="1628640"/>
            <a:ext cx="57495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o what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 Black"/>
              </a:rPr>
              <a:t>YOU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oing to do f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 care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854360" y="1143000"/>
            <a:ext cx="521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Thinking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abou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Arial Black"/>
              </a:rPr>
              <a:t>Business </a:t>
            </a: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35080" y="1346040"/>
            <a:ext cx="507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Let’s t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look 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eers in Bus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l1ObC15Xlz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31 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in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20:08Z</dcterms:created>
  <dc:creator>HP Authorized Customer</dc:creator>
  <dc:description/>
  <dc:language>en-US</dc:language>
  <cp:lastModifiedBy>HP Authorized Customer</cp:lastModifiedBy>
  <dcterms:modified xsi:type="dcterms:W3CDTF">2010-04-26T02:54:00Z</dcterms:modified>
  <cp:revision>13</cp:revision>
  <dc:subject/>
  <dc:title>       WORK</dc:title>
</cp:coreProperties>
</file>